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cashreg.wav" ContentType="audio/x-wav"/>
  <Override PartName="/ppt/media/image5.gif" ContentType="image/gif"/>
  <Override PartName="/ppt/media/image4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gif" ContentType="image/gif"/>
  <Override PartName="/ppt/media/image16.png" ContentType="image/png"/>
  <Override PartName="/ppt/media/chimes.wav" ContentType="audio/x-wav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913-E549-4F8A-B6F4-E42A91C1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310-6001-4FDA-BE0D-2FA6A91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464-4A54-4E65-A103-41541773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A00-DBCC-4494-9013-8B252453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9B0-E2C4-4E44-8133-AD0B05D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6DF-EAA9-440B-A41F-DDF7F6C4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12B-40EB-4BD4-BA06-E1E61C0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C23-2FEF-46E5-8E5E-1F35AEA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7DC-B0D1-4F92-B360-BDA8968F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257-471B-4CE6-8220-9FE805F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010-7FD2-43B6-8DC1-75F7522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2B8-99DA-4668-97DE-F477B7D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92D-C85E-438D-A171-756FC6E4B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5.gif"/><Relationship Id="rId31" Type="http://schemas.openxmlformats.org/officeDocument/2006/relationships/image" Target="../media/image9.gif"/><Relationship Id="rId32" Type="http://schemas.openxmlformats.org/officeDocument/2006/relationships/image" Target="../media/image8.gif"/><Relationship Id="rId33" Type="http://schemas.openxmlformats.org/officeDocument/2006/relationships/image" Target="../media/image7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6.gif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cashreg.wav"/><Relationship Id="rId18" Type="http://schemas.openxmlformats.org/officeDocument/2006/relationships/audio" Target="../media/chimes.wav"/><Relationship Id="rId19" Type="http://schemas.openxmlformats.org/officeDocument/2006/relationships/audio" Target="../media/cashreg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812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502920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836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cc00"/>
                </a:solidFill>
                <a:latin typeface="Times New Roman"/>
              </a:rPr>
              <a:t>Unit 1  Section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369720"/>
            <a:ext cx="883908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signment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后任务）</a:t>
            </a: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Copy new words three times and write numbers from zero to nine from memory 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抄写新单词五遍，会默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个数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Make a dialogue with “ What’s your telephone number? It’s ….” as long as you can.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your telephone number? It’s ….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所学的英语编尽可能长的对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Make an ID card for yourself.(Whose card is the most beautiful?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自己制作精美的名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赛谁的卡片最精致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 suggestion:Make an address note for clas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建议班长组织制作班级同学通讯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62600">
            <a:off x="456840" y="540972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5430b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Thank you! Goodby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5430b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84636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81108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86880" y="7621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7621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9400" y="14479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09480" y="3124080"/>
            <a:ext cx="655920" cy="6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352680"/>
            <a:ext cx="65556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981080" y="32767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362320" y="33526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743200" y="39625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2743200" y="34290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657600" y="380988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4114800" y="3352680"/>
            <a:ext cx="6620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657600" y="342900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267080" y="3809880"/>
            <a:ext cx="68760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00600" y="373392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4572000" y="3352680"/>
            <a:ext cx="577800" cy="8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019920" y="3429000"/>
            <a:ext cx="72072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6400800" y="32767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791320" y="37339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5"/>
          <a:stretch/>
        </p:blipFill>
        <p:spPr>
          <a:xfrm>
            <a:off x="6781680" y="3505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5867280" y="41148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6324480" y="3657600"/>
            <a:ext cx="8240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/>
          <a:stretch/>
        </p:blipFill>
        <p:spPr>
          <a:xfrm>
            <a:off x="6248520" y="403848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/>
          <a:stretch/>
        </p:blipFill>
        <p:spPr>
          <a:xfrm>
            <a:off x="5029200" y="838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/>
          <a:stretch/>
        </p:blipFill>
        <p:spPr>
          <a:xfrm>
            <a:off x="7886880" y="14479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1"/>
          <a:stretch/>
        </p:blipFill>
        <p:spPr>
          <a:xfrm>
            <a:off x="6858000" y="38862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2"/>
          <a:stretch/>
        </p:blipFill>
        <p:spPr>
          <a:xfrm>
            <a:off x="4876920" y="3276720"/>
            <a:ext cx="57780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4"/>
          <a:stretch/>
        </p:blipFill>
        <p:spPr>
          <a:xfrm>
            <a:off x="73152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5"/>
          <a:stretch/>
        </p:blipFill>
        <p:spPr>
          <a:xfrm>
            <a:off x="75438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6"/>
          <a:stretch/>
        </p:blipFill>
        <p:spPr>
          <a:xfrm>
            <a:off x="73915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7"/>
          <a:stretch/>
        </p:blipFill>
        <p:spPr>
          <a:xfrm>
            <a:off x="77724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8"/>
          <a:stretch/>
        </p:blipFill>
        <p:spPr>
          <a:xfrm>
            <a:off x="80010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9"/>
          <a:stretch/>
        </p:blipFill>
        <p:spPr>
          <a:xfrm>
            <a:off x="82296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0"/>
          <a:stretch/>
        </p:blipFill>
        <p:spPr>
          <a:xfrm>
            <a:off x="76201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1"/>
          <a:stretch/>
        </p:blipFill>
        <p:spPr>
          <a:xfrm>
            <a:off x="792468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2"/>
          <a:stretch/>
        </p:blipFill>
        <p:spPr>
          <a:xfrm>
            <a:off x="8213760" y="3733920"/>
            <a:ext cx="93024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3"/>
          <a:stretch/>
        </p:blipFill>
        <p:spPr>
          <a:xfrm>
            <a:off x="609480" y="4343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05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e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04000" y="5105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1295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z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31230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lish nu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      1     2       3      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164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      6      7       8      9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4572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86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3372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860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28600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2096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6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362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85800"/>
            <a:ext cx="7010280" cy="4876920"/>
          </a:xfrm>
          <a:custGeom>
            <a:avLst/>
            <a:gdLst>
              <a:gd name="textAreaLeft" fmla="*/ 1647360 w 7010280"/>
              <a:gd name="textAreaRight" fmla="*/ 5357880 w 7010280"/>
              <a:gd name="textAreaTop" fmla="*/ 573120 h 4876920"/>
              <a:gd name="textAreaBottom" fmla="*/ 3059280 h 4876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276120"/>
            <a:ext cx="7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-2444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7680" y="6858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7680" y="144792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2240" y="220968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02240" y="29718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37160" y="3809880"/>
            <a:ext cx="25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71720" y="4648320"/>
            <a:ext cx="309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6280" y="55468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4440" y="1752480"/>
            <a:ext cx="506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920" y="13730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523880"/>
            <a:ext cx="86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1905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3800" y="1600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752480"/>
            <a:ext cx="208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2080" y="1600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4120" y="177156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5160" y="175248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752480"/>
            <a:ext cx="39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5546880"/>
            <a:ext cx="42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2060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9144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What’s your 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phone number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, Li X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It’s 281-9176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6324480"/>
            <a:ext cx="92012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1891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9880" y="914400"/>
            <a:ext cx="563904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N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00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181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 3 7 1 6 4 2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2320" y="1270080"/>
            <a:ext cx="4495680" cy="340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76000"/>
          </a:blip>
          <a:stretch/>
        </p:blipFill>
        <p:spPr>
          <a:xfrm>
            <a:off x="228600" y="358128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380880"/>
            <a:ext cx="2819520" cy="21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533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9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6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0"/>
            <a:ext cx="96012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, two little, thre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 , five little ,six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 ,eight little , nin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 India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, nine little, eight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, six little, fiv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, three little, two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 Indian bo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05:34Z</dcterms:created>
  <dc:creator>初三办公室2(1)</dc:creator>
  <dc:description/>
  <dc:language>en-US</dc:language>
  <cp:lastModifiedBy>luomingjiang</cp:lastModifiedBy>
  <dcterms:modified xsi:type="dcterms:W3CDTF">2005-09-17T00:24:19Z</dcterms:modified>
  <cp:revision>50</cp:revision>
  <dc:subject/>
  <dc:title>PowerPoint 演示文稿</dc:title>
</cp:coreProperties>
</file>